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it either this slide or the nex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221B-4098-481A-88DF-F679DD396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436F-E6A9-4AAE-B6F7-C8F025FFA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0F2F-5479-4D4F-93B3-4E8693A7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74FE-69DE-4277-BC94-9F708955A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BDA8-D0BC-4D02-9CFE-75C0087F5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0FFF-B8A4-4F3B-8BD0-049C925A0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D6D5-9163-4A1D-9449-5BFDA027E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D3E5-4DDE-419D-96A7-CC7255037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9689-BE07-41EB-9B6B-E96DF4D96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AECF-4BF9-4EA8-B8A0-58F3BCA59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5711-0472-43D1-9205-37CB6BB2D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4EC4-B87C-4FB2-AB09-887869256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3FB6-D439-4240-99A1-01E978D6E2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059D-BA95-4F3F-A67D-D092BEB04A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a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“effective feedback”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“ineffective feedback”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one response effective and another less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5D73-B795-4C1A-822C-AC31414A3A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0D6-19CE-40FC-A350-7E0078A71D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will you focus on?  What will you say? What question(s) will you as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E8A-E6D2-4426-B399-C00EFDE859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32E-201C-4A36-B507-E6DBFEEDD7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391B-3056-4643-87DB-8266894F68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5EB-996C-472E-AB10-DEAE2A723C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307-4C5C-4E96-9DA9-24E35151AC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D131-3D42-4683-BCD2-395BAD272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D10E-0E12-45C0-87A1-EDCDB9A87C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7C1-D267-4AE8-937C-CC01897FCB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1D57-8C98-4E08-8E13-05768EDE1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FCD-9E24-4E51-9036-65EF4715C3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8B4-930A-40C6-BB25-7FF57E9923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32C-AC8B-4C27-95EF-96A9F3E84C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462924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earch Arti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8CC9-10BE-4060-95EF-1B9E5061B6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Share and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0CF6-9A2C-454A-A5A2-6ACA1980AF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34E-8F2D-4EF8-AA6D-1F2DC4F29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agrafton</cp:lastModifiedBy>
  <dcterms:modified xsi:type="dcterms:W3CDTF">2011-08-09T00:40:06Z</dcterms:modified>
  <cp:revision>20</cp:revision>
  <dc:subject/>
  <dc:title>&lt;Title&gt;</dc:title>
</cp:coreProperties>
</file>